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84600" y="5943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oward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74880" y="592596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oward another class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5029200"/>
            <a:ext cx="36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oward your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10080" y="6035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way from all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6600" y="35244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are heating a substance in a test tube, always point the open end to the tu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0" y="2673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:  away from all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5880" y="48880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use a rag or paper to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use t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11640" y="4824360"/>
            <a:ext cx="347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ick up the end that looks co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30880" y="6035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our cold water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7960" y="77796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are heating a piece of glass and you want to pick it up.  You 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0" y="27352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:  use to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4640" y="4840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isit the school nurse aft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57240" y="6035760"/>
            <a:ext cx="33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ell the science instructor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0880" y="48560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ee a doctor after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424480" y="6035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pply first aid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81200" y="47772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have been injured in the lab (cut, burn, etc.)  First you 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69840" y="2451240"/>
            <a:ext cx="5102280" cy="11523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:  tell the science i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 face sh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58680" y="584676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plashproof chemical gog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afety g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299200" y="5846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49160" y="62064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 eyeglasses provide as much protectio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69840" y="2514600"/>
            <a:ext cx="4267080" cy="11667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:  n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411280" y="269244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s. Selb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1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7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3680" y="6461280"/>
              <a:ext cx="30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aselby@comcast.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oose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and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952880" y="50292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angling jewel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74800" y="6523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 lab, the following should not be w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:  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eak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lenty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4560" y="588960"/>
            <a:ext cx="518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an acid is splashed on your skin, wash at once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:  plenty of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64832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2720" y="4871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lways against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3520" y="6095880"/>
            <a:ext cx="30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not 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k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283360" y="6035760"/>
            <a:ext cx="341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.k. if you are working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97040" y="6523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rseplay or practical jokes in the lab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69840" y="2766960"/>
            <a:ext cx="450360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 always against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9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t glass looks the same as cold g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: 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12640" y="55728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chemicals in the lab are to be considered dang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: 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4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2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0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2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6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4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2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95240" y="636480"/>
            <a:ext cx="5181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ork areas should be kept clean and ti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: 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01640" y="44784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b aprons/coats should be worn during all lab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: 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60280" y="5943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r.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s. Sel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952880" y="502920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resident B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97040" y="80964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 is the most important person from this l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: 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59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0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8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6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5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3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2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0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8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6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 op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6095880"/>
            <a:ext cx="31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other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 open fl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 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90640" y="77796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mmable materials, like alcohol, should never be dispensed or used 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An open fl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029200"/>
            <a:ext cx="39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otify your i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5880" y="5905440"/>
            <a:ext cx="32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hrow water on the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3120" y="4919760"/>
            <a:ext cx="36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un for the fire extingu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6095880"/>
            <a:ext cx="35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pen the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a laboratory fire erupts, immedia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Notify your i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3400" y="490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:  left in your lab station for the nex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74880" y="603576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umped in the 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89400" y="49816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 disposed of according to you instructor’s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aken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90504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completing an experiment, all chemicals wastes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2593800"/>
            <a:ext cx="4976640" cy="10875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 disposed of according to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ctor’s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 </cp:lastModifiedBy>
  <dcterms:modified xsi:type="dcterms:W3CDTF">2008-09-02T00:49:28Z</dcterms:modified>
  <cp:revision>20</cp:revision>
  <dc:subject/>
  <dc:title>No Slide Title</dc:title>
</cp:coreProperties>
</file>